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A105-8EAD-4AE2-98B7-CEDFA8D02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7842-37EC-46F4-B53B-FA7F461F4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4217-4E00-4888-95B1-E6BF97984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2DF1-202B-486C-96F5-44DF9F0A7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324EB6-F676-48CA-9796-8997B89FB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91126E-8132-4A00-94D0-967733BF1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D51149-D719-49D6-8CF9-EBB5C31F3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B9A052-9891-4F86-8D2A-89D1DA994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559A33-0961-4C49-A238-1F16675B5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D491B7-BFB6-4FDE-BB46-F00D51C7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0D6D7E-8E0B-4DD9-8311-AA2050A5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532C-B882-47EA-8F89-29D9D0ED5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798E44-D926-4B61-82B9-17A17B3C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4C358A-7BA8-40EA-A028-4F16769F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6042EB-CFC9-4A44-A947-E2B6C50A3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16DC7A-E317-463D-8250-8318A6552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69A519-6558-45E8-AD6D-C46667DBD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375C-977F-4BD8-8E5D-D7E45B292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EFC8-FB68-4965-A234-EDE402AB6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8046-1541-4AB3-8986-AC6996E54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517C-F922-4D8A-8752-DAA54EF2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6D04-23DC-4D24-886C-9B9639D0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E3E6-BA4C-4AED-B2D7-93301928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7FEE-5460-4294-B673-F0213423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909D-B296-4D00-933C-EF6059326ACE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58A90-D3D3-4EE1-8A0D-F4196AE2504C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14400" y="965160"/>
            <a:ext cx="762012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Monotype Corsiva"/>
              </a:rPr>
              <a:t>Lesson Fourte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Monotype Corsiva"/>
              </a:rPr>
              <a:t>Do you speak English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80880" y="0"/>
            <a:ext cx="83059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sk and answer the questions in pai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did you have last yea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part of France were you i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d you been in a small villag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re did you drive on t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 waved to you on the wa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did he ask you fo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did you say good morning to hi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language did you spea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d your passenger reply in French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many words of French do you know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d you speak to him during the journe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did he suddenly say someth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did he ask you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57200" y="380880"/>
            <a:ext cx="822960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tell the stor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using experience---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ft---small village---south of France---dr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the way---man waved---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opped---asked---lif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o---car---good morning---Fren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---same langu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ew words---not---any Fren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ither---spoke---journ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arly---town---suddenly’---speak English?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arnt---English hims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293760"/>
            <a:ext cx="84582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ad an amusing  experienc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last year. After I had left a small villag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 the south of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France, I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rove 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to the next town.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n the way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a young man waved to me. I stopped and 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sked me for a lif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As soon as he had got into the car, I said good morning to him in French and he </a:t>
            </a: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replied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in the same language. </a:t>
            </a: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2" action="ppaction://hlinksldjump"/>
              </a:rPr>
              <a:t>Apart from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 few words, I do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no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know any French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 al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Neither of us spoke during the journey. I had nearly reached the town, </a:t>
            </a: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3" action="ppaction://hlinksldjump"/>
              </a:rPr>
              <a:t>when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the young man suddenly said, very slowly, ‘Do you speak English?’ As I soon learnt, he was English himself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" action="ppaction://hlinkshowjump?jump=lastslide"/>
          </p:cNvPr>
          <p:cNvSpPr/>
          <p:nvPr/>
        </p:nvSpPr>
        <p:spPr>
          <a:xfrm>
            <a:off x="8077320" y="57913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09480" y="2286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ply &amp; ans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8380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I.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都是不及物动词时，可以互换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236232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II.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都跟宾语从句时，可以互换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28195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e answered / replied that he was not com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342900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III. answer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是及物动词；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reply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是不及物动词，带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语时，后面要加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to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42670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He answered / replied to the question / 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mo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5181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2. Have you replied to / answered his lett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137160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I asked him where to go, but he didn’t answer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rep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7924680" y="594360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09480" y="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apart 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3e3ff"/>
                </a:solidFill>
                <a:latin typeface="Arial"/>
              </a:rPr>
              <a:t>= except for / besides </a:t>
            </a:r>
            <a:r>
              <a:rPr b="1" lang="zh-CN" sz="2800" spc="-1" strike="noStrike">
                <a:solidFill>
                  <a:srgbClr val="e3e3ff"/>
                </a:solidFill>
                <a:latin typeface="Arial"/>
              </a:rPr>
              <a:t>除去，除……之外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1066680"/>
            <a:ext cx="744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除一辆轿车之外，我想不起我还需要什么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1676520"/>
            <a:ext cx="855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 can’t think of anything I need apart from a c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362320"/>
            <a:ext cx="585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他除了鼻子以外，哪儿都很好看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3048120"/>
            <a:ext cx="82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part from his nose, he is quite good-look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3733920"/>
            <a:ext cx="780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他除了脸部和双手受伤以外，两条腿也断了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441972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part from the injuries to his face and hand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e broke both le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>
            <a:hlinkClick r:id="rId1" action="ppaction://hlinksldjump"/>
          </p:cNvPr>
          <p:cNvSpPr/>
          <p:nvPr/>
        </p:nvSpPr>
        <p:spPr>
          <a:xfrm>
            <a:off x="8305920" y="5791320"/>
            <a:ext cx="533160" cy="30456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28600" y="45720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Sb had (just) done sth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Sb. was doing sth.                             When sb. else did s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Sb. was going/about to do s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228600"/>
            <a:ext cx="685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Arial"/>
              </a:rPr>
              <a:t>｝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1905120"/>
            <a:ext cx="538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我正要走，电话铃突然响了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236232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 was just about  to leave when the teleph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ddenly ra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3200400"/>
            <a:ext cx="653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我们正在吃饭，一个朋友走了进来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3733920"/>
            <a:ext cx="87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e were having our dinner when a friend came 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267080"/>
            <a:ext cx="660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他们刚刚干完活，天就下起雨来了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480060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y had just finished their work when it beg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o r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>
            <a:hlinkClick r:id="rId1" action="ppaction://hlinksldjump"/>
          </p:cNvPr>
          <p:cNvSpPr/>
          <p:nvPr/>
        </p:nvSpPr>
        <p:spPr>
          <a:xfrm>
            <a:off x="8305920" y="60199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04920" y="0"/>
            <a:ext cx="8839080" cy="88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Monotype Corsiva"/>
              </a:rPr>
              <a:t>Summary wri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ffffff"/>
                </a:solidFill>
                <a:latin typeface="Monotype Corsiva"/>
              </a:rPr>
              <a:t>The writer gave a lift to a young man in the south of France last year. They greeted each other in French. Apart from a few words, the writer doesn’t speak any French. They sat in silence. At the end of the journey the young man asked, ‘Do you speak English?’ He was English himself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Monotype Corsiva"/>
              </a:rPr>
              <a:t>                                                  </a:t>
            </a:r>
            <a:r>
              <a:rPr b="1" lang="zh-CN" sz="4400" spc="-1" strike="noStrike">
                <a:solidFill>
                  <a:srgbClr val="ffffff"/>
                </a:solidFill>
                <a:latin typeface="Monotype Corsiva"/>
              </a:rPr>
              <a:t>(55 words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6T09:27:27Z</dcterms:created>
  <dc:creator/>
  <dc:description/>
  <dc:language>en-US</dc:language>
  <cp:lastModifiedBy>史流</cp:lastModifiedBy>
  <dcterms:modified xsi:type="dcterms:W3CDTF">2002-08-05T03:12:12Z</dcterms:modified>
  <cp:revision>18</cp:revision>
  <dc:subject/>
  <dc:title>幻灯片 1</dc:title>
</cp:coreProperties>
</file>